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meepmeep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639-BE1D-4AB6-80D5-7065EE4A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B39-2A9A-4591-B0EA-20F80EF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BCC-C7E9-4B40-AD67-AC80F7D3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2C1-978C-4B92-99AF-9EE38DC6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15C-D24D-456E-9B74-FE550D4C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7B1-5987-4EFC-86C9-7E57993A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EF1-5E88-40A6-94BD-04DCED02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6E2-D722-409B-8FDE-221C09B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615-EF29-441F-BDB4-F6A3B61A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4DD-1E02-4D4D-BC93-73B0FE29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FC8-A490-4363-B602-C2507A8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DA9-86E5-4919-999C-CADFF26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62C4-EA76-4E12-823A-511D4E7C8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meepmeep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Name the vari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4880" y="1450800"/>
                <a:ext cx="278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71520" y="2314440"/>
                <a:ext cx="527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92280" y="2255760"/>
                <a:ext cx="1263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005360" y="1455840"/>
                <a:ext cx="28256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881600" y="2306520"/>
                <a:ext cx="579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26200" y="2320920"/>
                <a:ext cx="1474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61880" y="1352520"/>
                <a:ext cx="46641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243320" y="1506600"/>
                <a:ext cx="579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3960" y="2630520"/>
                <a:ext cx="45752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75240" y="2587680"/>
                <a:ext cx="527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8200" y="3479760"/>
                <a:ext cx="3813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÷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22600" y="384012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0280" y="5086440"/>
                <a:ext cx="4665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630520" y="5424480"/>
                <a:ext cx="896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344840" y="5418000"/>
                <a:ext cx="581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6720" y="1398600"/>
          <a:ext cx="8232480" cy="2487240"/>
        </p:xfrm>
        <a:graphic>
          <a:graphicData uri="http://schemas.openxmlformats.org/drawingml/2006/table">
            <a:tbl>
              <a:tblPr/>
              <a:tblGrid>
                <a:gridCol w="2357280"/>
                <a:gridCol w="5875200"/>
              </a:tblGrid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92040" y="169236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5520" y="139392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arts separated by a plus or a minus 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520" y="29624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ns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4640" y="2895480"/>
            <a:ext cx="58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 term without a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9.  Name the coefficient of          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16480" y="674640"/>
                <a:ext cx="1346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94240" y="1436760"/>
                <a:ext cx="527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259884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0. 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757520" y="2482920"/>
                <a:ext cx="1616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389400" y="262080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02000" y="2505240"/>
                <a:ext cx="1301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602320" y="2643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like or unli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3000" y="3825720"/>
            <a:ext cx="18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203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63, 3 – 1 #1-1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65, 3 – 2 #1-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9-06T02:39:06Z</dcterms:modified>
  <cp:revision>54</cp:revision>
  <dc:subject/>
  <dc:title>Slide 1</dc:title>
</cp:coreProperties>
</file>